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C36-CEA8-4A82-B397-21718858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464-2894-47C1-BA6A-5F30FB2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1A7-2E6E-40AA-8F23-A7B68422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CFF-C95D-4413-9C96-B088DA42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990-E4C8-4D64-B77D-99FCF8AF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55B-4533-44CA-A349-74EBD917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208-C77C-4B9E-9088-9E64BD31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C54-3A19-41E4-8D20-02DECAE9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8EB-5234-40A4-B541-F8831BB2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1B7-EFE7-4CFF-A4CA-31406870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112-6E84-49B1-BF38-F981C226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5EF-6C1A-4018-A45E-74D7945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DEE4-0696-4798-A9FA-4C05BC2DDE1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549360"/>
            <a:ext cx="820728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ersuasive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in requirements of the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persuasive essay are that it will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rry a sense of conviction, commitment or belief by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liberate use of t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use of persuasive techniques, such as manipulating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formation, claiming necessity/exclusivity, flattering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mploying technical jargon/rhetoric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11280" y="4581360"/>
            <a:ext cx="75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iscuss what is meant by each of the techniques ab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84360" y="333360"/>
            <a:ext cx="75596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ead the article you have been given, and discuss it in pairs, highlighting the use of persuasive techniq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Join with another pair, and compare your id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4.bp.blogspot.com/_is5as3vHFSk/TCcvQr10B4I/AAAAAAAAAAw/OwZzet_6z6c/s400/homework+alert.gif"/>
          <p:cNvPicPr/>
          <p:nvPr/>
        </p:nvPicPr>
        <p:blipFill>
          <a:blip r:embed="rId1"/>
          <a:stretch/>
        </p:blipFill>
        <p:spPr>
          <a:xfrm>
            <a:off x="611280" y="3068640"/>
            <a:ext cx="1235160" cy="11365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5" descr=""/>
          <p:cNvPicPr/>
          <p:nvPr/>
        </p:nvPicPr>
        <p:blipFill>
          <a:blip r:embed="rId2"/>
          <a:stretch/>
        </p:blipFill>
        <p:spPr>
          <a:xfrm>
            <a:off x="2273400" y="3108240"/>
            <a:ext cx="653580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nabokov.typepad.com/.a/6a00e54f81710d883301543452829f970c-450wi"/>
          <p:cNvPicPr/>
          <p:nvPr/>
        </p:nvPicPr>
        <p:blipFill>
          <a:blip r:embed="rId3"/>
          <a:stretch/>
        </p:blipFill>
        <p:spPr>
          <a:xfrm>
            <a:off x="0" y="4653000"/>
            <a:ext cx="2509920" cy="55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thelondondailynews.com/images/guardian%20logo.jpg"/>
          <p:cNvPicPr/>
          <p:nvPr/>
        </p:nvPicPr>
        <p:blipFill>
          <a:blip r:embed="rId4"/>
          <a:stretch/>
        </p:blipFill>
        <p:spPr>
          <a:xfrm>
            <a:off x="6300720" y="5445000"/>
            <a:ext cx="2627280" cy="4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canongate.tv/media/wysiwyg/TheIndependentMasthead1.jpg"/>
          <p:cNvPicPr/>
          <p:nvPr/>
        </p:nvPicPr>
        <p:blipFill>
          <a:blip r:embed="rId5"/>
          <a:stretch/>
        </p:blipFill>
        <p:spPr>
          <a:xfrm>
            <a:off x="4859280" y="4508640"/>
            <a:ext cx="2895480" cy="8524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0"/>
          <p:cNvSpPr/>
          <p:nvPr/>
        </p:nvSpPr>
        <p:spPr>
          <a:xfrm>
            <a:off x="135000" y="-347760"/>
            <a:ext cx="2057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http://www.sfe.org.uk/media/resources/thescotsman.gif"/>
          <p:cNvPicPr/>
          <p:nvPr/>
        </p:nvPicPr>
        <p:blipFill>
          <a:blip r:embed="rId6"/>
          <a:stretch/>
        </p:blipFill>
        <p:spPr>
          <a:xfrm>
            <a:off x="324000" y="6021360"/>
            <a:ext cx="350496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http://s3.mediauk.com.s3.amazonaws.com/logos/50/13722.png"/>
          <p:cNvPicPr/>
          <p:nvPr/>
        </p:nvPicPr>
        <p:blipFill>
          <a:blip r:embed="rId7"/>
          <a:stretch/>
        </p:blipFill>
        <p:spPr>
          <a:xfrm>
            <a:off x="4788000" y="6165720"/>
            <a:ext cx="303840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watchhousecafe.co.uk/wp-content/uploads/2011/08/the-times-logo.gif"/>
          <p:cNvPicPr/>
          <p:nvPr/>
        </p:nvPicPr>
        <p:blipFill>
          <a:blip r:embed="rId8"/>
          <a:stretch/>
        </p:blipFill>
        <p:spPr>
          <a:xfrm>
            <a:off x="1403280" y="5084640"/>
            <a:ext cx="3606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20:15:30Z</dcterms:created>
  <dc:creator>Ellie Griffiths</dc:creator>
  <dc:description/>
  <dc:language>en-US</dc:language>
  <cp:lastModifiedBy>Ellie Griffiths</cp:lastModifiedBy>
  <dcterms:modified xsi:type="dcterms:W3CDTF">2011-08-29T20:35:11Z</dcterms:modified>
  <cp:revision>2</cp:revision>
  <dc:subject/>
  <dc:title>Slide 1</dc:title>
</cp:coreProperties>
</file>